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dt" idx="15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ftr" idx="16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 type="sldNum" idx="17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C84B0D2F-5DE1-47DA-B44B-D0638D2DEEB7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Marcador de Posição do Número do Diapositivo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F4DAD143-C652-4313-85D1-5B2FA1C2EE80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5D3C2-90DE-4EEE-B9F0-465EC026B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6D9CF-74C6-453D-A435-DDCA66BB160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33160" y="558360"/>
            <a:ext cx="805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692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8104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3316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692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8104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A88606-4324-45D0-A2ED-AE0E77E81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004A7-FAE1-4EEF-813B-93A1F490D9C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88E1A0-0BB2-48C1-8EFB-5E7E697CFE1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0EEAF0-3DE0-4CCC-89D5-90A7D560967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5C0A64-BE6D-4FCF-90DB-6D47287668A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239EE5-67C6-420D-B071-DB2C97E214B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533160" y="558360"/>
            <a:ext cx="805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D8C61E-7C34-4AEB-8FDE-1EB1B863529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D2452B-365E-4E85-A99A-D6AEA7BE3BC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2BBBDE-55DD-4F51-840A-DAE7A1DA437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97662C-1722-4AC7-B95B-C3E3E6BFF2E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BCF09A-CF56-4964-B448-993941D546F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FC0A30-829F-44CF-AFEC-865A9ABB6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5692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104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5692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104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4CC31-D817-4AEC-BB4E-F25DC5E060F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5692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98104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3316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5692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98104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A712A0-55B5-407F-869D-2865E1E4583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07C09-BEF5-4F29-AA37-20D72F5F933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91EE8-68BD-4E1A-8B54-879983012F8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9A75C-2E26-4C48-8115-551BBD6F0FD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DB5AE-E918-467E-8597-260161A1342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BD8F7-7EFB-4373-B28A-9A13CFFE8C2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533160" y="558360"/>
            <a:ext cx="805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B4C9E-4FFE-4755-B29D-E03BBF39C90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A6ED9-C36C-40B9-AB5A-95206806953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B874B-B2DF-4BD8-B895-50DC3350B3F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644EE-628A-4C30-9C44-1F41B4355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DBBC3-439E-4EFC-87FD-7259D7CF105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FF49B-ADC9-4F95-A6CA-8F49A08E8C9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5692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8104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3316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5692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8104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3B8A4-C994-40D3-B0FC-7A4A0438FC4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E1CEED-59AF-4009-9A11-8E3A1FDCA73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F39B8C-C6CD-4EB0-A7E6-7173DFD0C94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481BF3-5122-4B4F-B4FB-D2B75E3CDC9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A93E76-FDA5-4ECF-A4C8-A3B0D110BA0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C1DCB8-9B8B-4F64-9527-4B3F3482E7E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33160" y="558360"/>
            <a:ext cx="805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A0ADAA-7A9A-452E-82CA-40C57B602D2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2D09C7-ACED-49F7-8E20-727D1CA561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A21B1-B899-4063-9E0D-9C444A754D5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E715D6-DC17-4CC6-8868-BD9748BAFEE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A205AE-8BBA-49F5-9AF0-CAD603C6822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B33D5E-721C-4371-9498-B07C96DE75A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5692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8104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3316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5692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8104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C0191F-CEB3-4049-855E-9996F95721E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533160" y="558360"/>
            <a:ext cx="805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5692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98104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3316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5692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598104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558360"/>
            <a:ext cx="805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6EB7A-E55F-49F3-8E01-424BA4F5B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5692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8104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5692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8104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5A62E-FF3E-44E6-8A1C-6357A51FD3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33160" y="558360"/>
            <a:ext cx="805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5692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8104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316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5692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8104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5A554-F5E0-49FB-98D5-53AB709D55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533160" y="558360"/>
            <a:ext cx="805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5692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8104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3316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5692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8104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DAC43-5D0F-4E05-A11D-FC5D64DD7E9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160" y="558360"/>
            <a:ext cx="805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558360"/>
            <a:ext cx="805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1F06C-9342-4191-8ECF-E91B71B4008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692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8104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16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692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8104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533160" y="558360"/>
            <a:ext cx="805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3BDB8-B9A3-4155-B162-6705F52B797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5692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8104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3316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5692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8104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533160" y="558360"/>
            <a:ext cx="805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3F655-4722-4DB8-890C-6E939742B8D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5692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8104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3316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5692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8104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A1832A-8B56-4A11-A412-3C009F8E318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308C4-E7B3-4ACD-A337-3D47EBC3976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BF4883-BDC5-4A28-94B3-0F159C0FD57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079FBA-E265-4DDD-AA3E-C475F7E5EAF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6D43C-151B-40E2-815B-E0DEFC817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6BE32-05EE-4AC0-A453-053F6A55780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533160" y="558360"/>
            <a:ext cx="805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F3A28-2C31-46F2-B98E-C2883A54B6D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C36FD4-8234-4A63-88B9-58C5E55CC6D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429EF-26AA-42F9-AB22-9EFE99A4259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660F6F-BA42-4861-B419-E509C08B9A6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33160" y="3908880"/>
            <a:ext cx="805644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63AE2-0DB0-4A29-BF30-16BC7EBC588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1280" y="12826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3316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1280" y="3908880"/>
            <a:ext cx="39312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4B7DF-FF35-4098-9635-FD035672B20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5692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81040" y="12826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3316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5692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81040" y="3908880"/>
            <a:ext cx="2593800" cy="239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479A9-207E-45E9-974F-33688FB7D98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25600" y="6356520"/>
            <a:ext cx="5494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278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A16FB582-3411-4ACD-9FBD-F0B4763188BC}" type="slidenum">
              <a:rPr b="0" lang="en-US" sz="10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icture 2"/>
          <p:cNvSpPr/>
          <p:nvPr/>
        </p:nvSpPr>
        <p:spPr>
          <a:xfrm>
            <a:off x="6437160" y="311040"/>
            <a:ext cx="871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icture 2"/>
          <p:cNvSpPr/>
          <p:nvPr/>
        </p:nvSpPr>
        <p:spPr>
          <a:xfrm>
            <a:off x="6397560" y="254160"/>
            <a:ext cx="87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N:\Geral\Logotipos\CBHSF\Logo_CBHSF.tif"/>
          <p:cNvPicPr/>
          <p:nvPr/>
        </p:nvPicPr>
        <p:blipFill>
          <a:blip r:embed="rId2"/>
          <a:stretch/>
        </p:blipFill>
        <p:spPr>
          <a:xfrm>
            <a:off x="7729560" y="311040"/>
            <a:ext cx="871560" cy="641520"/>
          </a:xfrm>
          <a:prstGeom prst="rect">
            <a:avLst/>
          </a:prstGeom>
          <a:ln w="0">
            <a:noFill/>
          </a:ln>
        </p:spPr>
      </p:pic>
      <p:pic>
        <p:nvPicPr>
          <p:cNvPr id="375" name="Imagem 9" descr=""/>
          <p:cNvPicPr/>
          <p:nvPr/>
        </p:nvPicPr>
        <p:blipFill>
          <a:blip r:embed="rId3"/>
          <a:stretch/>
        </p:blipFill>
        <p:spPr>
          <a:xfrm>
            <a:off x="6418440" y="428760"/>
            <a:ext cx="1184040" cy="4665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9"/>
          </p:nvPr>
        </p:nvSpPr>
        <p:spPr>
          <a:xfrm>
            <a:off x="525600" y="6356520"/>
            <a:ext cx="5494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10"/>
          </p:nvPr>
        </p:nvSpPr>
        <p:spPr>
          <a:xfrm>
            <a:off x="65278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3DADEAE0-D40A-4D81-9CB6-53857E081F29}" type="slidenum">
              <a:rPr b="0" lang="en-US" sz="10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icture 2"/>
          <p:cNvSpPr/>
          <p:nvPr/>
        </p:nvSpPr>
        <p:spPr>
          <a:xfrm>
            <a:off x="6437160" y="311040"/>
            <a:ext cx="871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icture 2"/>
          <p:cNvSpPr/>
          <p:nvPr/>
        </p:nvSpPr>
        <p:spPr>
          <a:xfrm>
            <a:off x="6397560" y="254160"/>
            <a:ext cx="87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N:\Geral\Logotipos\CBHSF\Logo_CBHSF.tif"/>
          <p:cNvPicPr/>
          <p:nvPr/>
        </p:nvPicPr>
        <p:blipFill>
          <a:blip r:embed="rId2"/>
          <a:stretch/>
        </p:blipFill>
        <p:spPr>
          <a:xfrm>
            <a:off x="7729560" y="311040"/>
            <a:ext cx="871560" cy="641520"/>
          </a:xfrm>
          <a:prstGeom prst="rect">
            <a:avLst/>
          </a:prstGeom>
          <a:ln w="0">
            <a:noFill/>
          </a:ln>
        </p:spPr>
      </p:pic>
      <p:pic>
        <p:nvPicPr>
          <p:cNvPr id="419" name="Imagem 9" descr=""/>
          <p:cNvPicPr/>
          <p:nvPr/>
        </p:nvPicPr>
        <p:blipFill>
          <a:blip r:embed="rId3"/>
          <a:stretch/>
        </p:blipFill>
        <p:spPr>
          <a:xfrm>
            <a:off x="6418440" y="428760"/>
            <a:ext cx="1184040" cy="4665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11"/>
          </p:nvPr>
        </p:nvSpPr>
        <p:spPr>
          <a:xfrm>
            <a:off x="525600" y="6356520"/>
            <a:ext cx="5494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12"/>
          </p:nvPr>
        </p:nvSpPr>
        <p:spPr>
          <a:xfrm>
            <a:off x="65278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CFF0033E-0943-4C55-B817-B8F73EDDDF15}" type="slidenum">
              <a:rPr b="0" lang="en-US" sz="10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icture 2"/>
          <p:cNvSpPr/>
          <p:nvPr/>
        </p:nvSpPr>
        <p:spPr>
          <a:xfrm>
            <a:off x="6437160" y="311040"/>
            <a:ext cx="871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icture 2"/>
          <p:cNvSpPr/>
          <p:nvPr/>
        </p:nvSpPr>
        <p:spPr>
          <a:xfrm>
            <a:off x="6397560" y="254160"/>
            <a:ext cx="87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2" descr="N:\Geral\Logotipos\CBHSF\Logo_CBHSF.tif"/>
          <p:cNvPicPr/>
          <p:nvPr/>
        </p:nvPicPr>
        <p:blipFill>
          <a:blip r:embed="rId2"/>
          <a:stretch/>
        </p:blipFill>
        <p:spPr>
          <a:xfrm>
            <a:off x="7729560" y="311040"/>
            <a:ext cx="871560" cy="641520"/>
          </a:xfrm>
          <a:prstGeom prst="rect">
            <a:avLst/>
          </a:prstGeom>
          <a:ln w="0">
            <a:noFill/>
          </a:ln>
        </p:spPr>
      </p:pic>
      <p:pic>
        <p:nvPicPr>
          <p:cNvPr id="463" name="Imagem 9" descr=""/>
          <p:cNvPicPr/>
          <p:nvPr/>
        </p:nvPicPr>
        <p:blipFill>
          <a:blip r:embed="rId3"/>
          <a:stretch/>
        </p:blipFill>
        <p:spPr>
          <a:xfrm>
            <a:off x="6418440" y="428760"/>
            <a:ext cx="1184040" cy="4665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13"/>
          </p:nvPr>
        </p:nvSpPr>
        <p:spPr>
          <a:xfrm>
            <a:off x="525600" y="6356520"/>
            <a:ext cx="5494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14"/>
          </p:nvPr>
        </p:nvSpPr>
        <p:spPr>
          <a:xfrm>
            <a:off x="65278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7F82613C-48B8-4312-910F-5E57F832AEC1}" type="slidenum">
              <a:rPr b="0" lang="en-US" sz="10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Imagem 6" descr=""/>
          <p:cNvPicPr/>
          <p:nvPr/>
        </p:nvPicPr>
        <p:blipFill>
          <a:blip r:embed="rId2"/>
          <a:stretch/>
        </p:blipFill>
        <p:spPr>
          <a:xfrm>
            <a:off x="7416720" y="428760"/>
            <a:ext cx="1184400" cy="46656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cap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3"/>
          </p:nvPr>
        </p:nvSpPr>
        <p:spPr>
          <a:xfrm>
            <a:off x="525600" y="6356520"/>
            <a:ext cx="5494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logo_nemus.jpg"/>
          <p:cNvPicPr/>
          <p:nvPr/>
        </p:nvPicPr>
        <p:blipFill>
          <a:blip r:embed="rId2"/>
          <a:stretch/>
        </p:blipFill>
        <p:spPr>
          <a:xfrm>
            <a:off x="7348680" y="428760"/>
            <a:ext cx="1338120" cy="466560"/>
          </a:xfrm>
          <a:prstGeom prst="rect">
            <a:avLst/>
          </a:prstGeom>
          <a:ln w="0">
            <a:noFill/>
          </a:ln>
        </p:spPr>
      </p:pic>
      <p:sp>
        <p:nvSpPr>
          <p:cNvPr id="119" name="Picture 2"/>
          <p:cNvSpPr/>
          <p:nvPr/>
        </p:nvSpPr>
        <p:spPr>
          <a:xfrm>
            <a:off x="6437160" y="311040"/>
            <a:ext cx="871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icture 2"/>
          <p:cNvSpPr/>
          <p:nvPr/>
        </p:nvSpPr>
        <p:spPr>
          <a:xfrm>
            <a:off x="6397560" y="254160"/>
            <a:ext cx="87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N:\Geral\Logotipos\CBHSF\Logo_CBHSF.tif"/>
          <p:cNvPicPr/>
          <p:nvPr/>
        </p:nvPicPr>
        <p:blipFill>
          <a:blip r:embed="rId3"/>
          <a:stretch/>
        </p:blipFill>
        <p:spPr>
          <a:xfrm>
            <a:off x="6437160" y="311040"/>
            <a:ext cx="871560" cy="64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4"/>
          </p:nvPr>
        </p:nvSpPr>
        <p:spPr>
          <a:xfrm>
            <a:off x="525600" y="6356520"/>
            <a:ext cx="5494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logo_nemus.jpg"/>
          <p:cNvPicPr/>
          <p:nvPr/>
        </p:nvPicPr>
        <p:blipFill>
          <a:blip r:embed="rId2"/>
          <a:stretch/>
        </p:blipFill>
        <p:spPr>
          <a:xfrm>
            <a:off x="7348680" y="428760"/>
            <a:ext cx="1338120" cy="466560"/>
          </a:xfrm>
          <a:prstGeom prst="rect">
            <a:avLst/>
          </a:prstGeom>
          <a:ln w="0">
            <a:noFill/>
          </a:ln>
        </p:spPr>
      </p:pic>
      <p:sp>
        <p:nvSpPr>
          <p:cNvPr id="162" name="Picture 2"/>
          <p:cNvSpPr/>
          <p:nvPr/>
        </p:nvSpPr>
        <p:spPr>
          <a:xfrm>
            <a:off x="6437160" y="311040"/>
            <a:ext cx="871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icture 2"/>
          <p:cNvSpPr/>
          <p:nvPr/>
        </p:nvSpPr>
        <p:spPr>
          <a:xfrm>
            <a:off x="6397560" y="254160"/>
            <a:ext cx="87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N:\Geral\Logotipos\CBHSF\Logo_CBHSF.tif"/>
          <p:cNvPicPr/>
          <p:nvPr/>
        </p:nvPicPr>
        <p:blipFill>
          <a:blip r:embed="rId3"/>
          <a:stretch/>
        </p:blipFill>
        <p:spPr>
          <a:xfrm>
            <a:off x="6437160" y="311040"/>
            <a:ext cx="871560" cy="6415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5"/>
          </p:nvPr>
        </p:nvSpPr>
        <p:spPr>
          <a:xfrm>
            <a:off x="525600" y="6356520"/>
            <a:ext cx="5494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6"/>
          </p:nvPr>
        </p:nvSpPr>
        <p:spPr>
          <a:xfrm>
            <a:off x="525600" y="6369120"/>
            <a:ext cx="5494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icture 2"/>
          <p:cNvSpPr/>
          <p:nvPr/>
        </p:nvSpPr>
        <p:spPr>
          <a:xfrm>
            <a:off x="6437160" y="311040"/>
            <a:ext cx="871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icture 2"/>
          <p:cNvSpPr/>
          <p:nvPr/>
        </p:nvSpPr>
        <p:spPr>
          <a:xfrm>
            <a:off x="6397560" y="254160"/>
            <a:ext cx="87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N:\Geral\Logotipos\CBHSF\Logo_CBHSF.tif"/>
          <p:cNvPicPr/>
          <p:nvPr/>
        </p:nvPicPr>
        <p:blipFill>
          <a:blip r:embed="rId2"/>
          <a:stretch/>
        </p:blipFill>
        <p:spPr>
          <a:xfrm>
            <a:off x="7023240" y="5586480"/>
            <a:ext cx="1222200" cy="898560"/>
          </a:xfrm>
          <a:prstGeom prst="rect">
            <a:avLst/>
          </a:prstGeom>
          <a:ln w="0">
            <a:noFill/>
          </a:ln>
        </p:spPr>
      </p:pic>
      <p:pic>
        <p:nvPicPr>
          <p:cNvPr id="246" name="Imagem 9" descr=""/>
          <p:cNvPicPr/>
          <p:nvPr/>
        </p:nvPicPr>
        <p:blipFill>
          <a:blip r:embed="rId3"/>
          <a:stretch/>
        </p:blipFill>
        <p:spPr>
          <a:xfrm>
            <a:off x="720720" y="5799240"/>
            <a:ext cx="20718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65278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5251DE6E-1A5C-451B-AB90-68AFDBC0F724}" type="slidenum"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icture 2"/>
          <p:cNvSpPr/>
          <p:nvPr/>
        </p:nvSpPr>
        <p:spPr>
          <a:xfrm>
            <a:off x="6437160" y="311040"/>
            <a:ext cx="871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icture 2"/>
          <p:cNvSpPr/>
          <p:nvPr/>
        </p:nvSpPr>
        <p:spPr>
          <a:xfrm>
            <a:off x="6397560" y="254160"/>
            <a:ext cx="87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N:\Geral\Logotipos\CBHSF\Logo_CBHSF.tif"/>
          <p:cNvPicPr/>
          <p:nvPr/>
        </p:nvPicPr>
        <p:blipFill>
          <a:blip r:embed="rId2"/>
          <a:stretch/>
        </p:blipFill>
        <p:spPr>
          <a:xfrm>
            <a:off x="7729560" y="311040"/>
            <a:ext cx="871560" cy="641520"/>
          </a:xfrm>
          <a:prstGeom prst="rect">
            <a:avLst/>
          </a:prstGeom>
          <a:ln w="0">
            <a:noFill/>
          </a:ln>
        </p:spPr>
      </p:pic>
      <p:pic>
        <p:nvPicPr>
          <p:cNvPr id="289" name="Imagem 10" descr=""/>
          <p:cNvPicPr/>
          <p:nvPr/>
        </p:nvPicPr>
        <p:blipFill>
          <a:blip r:embed="rId3"/>
          <a:stretch/>
        </p:blipFill>
        <p:spPr>
          <a:xfrm>
            <a:off x="6418440" y="428760"/>
            <a:ext cx="1184040" cy="4665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7"/>
          </p:nvPr>
        </p:nvSpPr>
        <p:spPr>
          <a:xfrm>
            <a:off x="525600" y="6356520"/>
            <a:ext cx="5494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8"/>
          </p:nvPr>
        </p:nvSpPr>
        <p:spPr>
          <a:xfrm>
            <a:off x="65278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A5739CB8-75A7-408D-ABF3-DD971EB23083}" type="slidenum">
              <a:rPr b="0" lang="en-US" sz="10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icture 2"/>
          <p:cNvSpPr/>
          <p:nvPr/>
        </p:nvSpPr>
        <p:spPr>
          <a:xfrm>
            <a:off x="6437160" y="311040"/>
            <a:ext cx="871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icture 2"/>
          <p:cNvSpPr/>
          <p:nvPr/>
        </p:nvSpPr>
        <p:spPr>
          <a:xfrm>
            <a:off x="6397560" y="254160"/>
            <a:ext cx="87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N:\Geral\Logotipos\CBHSF\Logo_CBHSF.tif"/>
          <p:cNvPicPr/>
          <p:nvPr/>
        </p:nvPicPr>
        <p:blipFill>
          <a:blip r:embed="rId2"/>
          <a:stretch/>
        </p:blipFill>
        <p:spPr>
          <a:xfrm>
            <a:off x="7334280" y="5802480"/>
            <a:ext cx="1135080" cy="834840"/>
          </a:xfrm>
          <a:prstGeom prst="rect">
            <a:avLst/>
          </a:prstGeom>
          <a:ln w="0">
            <a:noFill/>
          </a:ln>
        </p:spPr>
      </p:pic>
      <p:pic>
        <p:nvPicPr>
          <p:cNvPr id="333" name="Imagem 9" descr=""/>
          <p:cNvPicPr/>
          <p:nvPr/>
        </p:nvPicPr>
        <p:blipFill>
          <a:blip r:embed="rId3"/>
          <a:stretch/>
        </p:blipFill>
        <p:spPr>
          <a:xfrm>
            <a:off x="793800" y="5923080"/>
            <a:ext cx="1820880" cy="7174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160" y="558360"/>
            <a:ext cx="8056440" cy="50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533160" y="1282680"/>
            <a:ext cx="8056440" cy="50277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Imagem 1" descr=""/>
          <p:cNvPicPr/>
          <p:nvPr/>
        </p:nvPicPr>
        <p:blipFill>
          <a:blip r:embed="rId1"/>
          <a:stretch/>
        </p:blipFill>
        <p:spPr>
          <a:xfrm>
            <a:off x="431640" y="6029280"/>
            <a:ext cx="1413000" cy="595440"/>
          </a:xfrm>
          <a:prstGeom prst="rect">
            <a:avLst/>
          </a:prstGeom>
          <a:ln w="0">
            <a:noFill/>
          </a:ln>
        </p:spPr>
      </p:pic>
      <p:pic>
        <p:nvPicPr>
          <p:cNvPr id="551" name="Imagem 20" descr="CBHSF.png"/>
          <p:cNvPicPr/>
          <p:nvPr/>
        </p:nvPicPr>
        <p:blipFill>
          <a:blip r:embed="rId2"/>
          <a:stretch/>
        </p:blipFill>
        <p:spPr>
          <a:xfrm>
            <a:off x="7416720" y="5918040"/>
            <a:ext cx="1173240" cy="739800"/>
          </a:xfrm>
          <a:prstGeom prst="rect">
            <a:avLst/>
          </a:prstGeom>
          <a:ln w="0">
            <a:noFill/>
          </a:ln>
        </p:spPr>
      </p:pic>
      <p:sp>
        <p:nvSpPr>
          <p:cNvPr id="552" name="CaixaDeTexto 1"/>
          <p:cNvSpPr/>
          <p:nvPr/>
        </p:nvSpPr>
        <p:spPr>
          <a:xfrm>
            <a:off x="696960" y="2602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ONSELHO NACIONAL DE RECURSOS HÍDRICOS - CN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CaixaDeTexto 3"/>
          <p:cNvSpPr/>
          <p:nvPr/>
        </p:nvSpPr>
        <p:spPr>
          <a:xfrm>
            <a:off x="122400" y="138096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Arial"/>
              </a:rPr>
              <a:t>98ª REUNIÃO CTCO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CaixaDeTexto 1"/>
          <p:cNvSpPr/>
          <p:nvPr/>
        </p:nvSpPr>
        <p:spPr>
          <a:xfrm>
            <a:off x="558720" y="2327400"/>
            <a:ext cx="803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ova Metodologia de Cobrança aplicada ao Distrito de Irrigação Nilo Coel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CaixaDeTexto 1"/>
          <p:cNvSpPr/>
          <p:nvPr/>
        </p:nvSpPr>
        <p:spPr>
          <a:xfrm>
            <a:off x="971640" y="4459320"/>
            <a:ext cx="727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lberto Simon Schvartz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retor Técnico - Agência Peixe V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rasília, 10 de outubro de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ítulo 12"/>
          <p:cNvSpPr/>
          <p:nvPr/>
        </p:nvSpPr>
        <p:spPr>
          <a:xfrm>
            <a:off x="1968480" y="274680"/>
            <a:ext cx="50673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Cobrança pela captação de 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ítulo 12"/>
          <p:cNvSpPr/>
          <p:nvPr/>
        </p:nvSpPr>
        <p:spPr>
          <a:xfrm>
            <a:off x="1968480" y="274680"/>
            <a:ext cx="50673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Cobrança pela captação de 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Espaço Reservado para Conteúdo 13"/>
          <p:cNvSpPr/>
          <p:nvPr/>
        </p:nvSpPr>
        <p:spPr>
          <a:xfrm>
            <a:off x="2351160" y="739800"/>
            <a:ext cx="38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Coeficiente (K eficiê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Espaço Reservado para Conteúdo 13"/>
          <p:cNvSpPr/>
          <p:nvPr/>
        </p:nvSpPr>
        <p:spPr>
          <a:xfrm>
            <a:off x="214200" y="1106640"/>
            <a:ext cx="2400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  <a:ea typeface="Tahoma"/>
              </a:rPr>
              <a:t>Irrig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CaixaDeTexto 38"/>
          <p:cNvSpPr/>
          <p:nvPr/>
        </p:nvSpPr>
        <p:spPr>
          <a:xfrm>
            <a:off x="2349360" y="1252440"/>
            <a:ext cx="5067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eficiênci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=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sistema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manej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CaixaDeTexto 6"/>
          <p:cNvSpPr/>
          <p:nvPr/>
        </p:nvSpPr>
        <p:spPr>
          <a:xfrm>
            <a:off x="1414440" y="21780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coeficiente 𝑘𝑠𝑖𝑠𝑡𝑒𝑚𝑎 visa diferenciar a cobrança conforme o método de irrigação adotado pelo usuár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Elipse 15"/>
          <p:cNvSpPr/>
          <p:nvPr/>
        </p:nvSpPr>
        <p:spPr>
          <a:xfrm>
            <a:off x="4356000" y="1087560"/>
            <a:ext cx="140976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Conector de seta reta 16"/>
          <p:cNvCxnSpPr/>
          <p:nvPr/>
        </p:nvCxnSpPr>
        <p:spPr>
          <a:xfrm flipH="1">
            <a:off x="4012920" y="1836360"/>
            <a:ext cx="489600" cy="3675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564" name="Imagem 27" descr=""/>
          <p:cNvPicPr/>
          <p:nvPr/>
        </p:nvPicPr>
        <p:blipFill>
          <a:blip r:embed="rId1"/>
          <a:stretch/>
        </p:blipFill>
        <p:spPr>
          <a:xfrm>
            <a:off x="762120" y="2849400"/>
            <a:ext cx="7975440" cy="3903840"/>
          </a:xfrm>
          <a:prstGeom prst="rect">
            <a:avLst/>
          </a:prstGeom>
          <a:ln w="0">
            <a:noFill/>
          </a:ln>
        </p:spPr>
      </p:pic>
      <p:sp>
        <p:nvSpPr>
          <p:cNvPr id="565" name="Elipse 1"/>
          <p:cNvSpPr/>
          <p:nvPr/>
        </p:nvSpPr>
        <p:spPr>
          <a:xfrm>
            <a:off x="6934320" y="3289320"/>
            <a:ext cx="1803240" cy="190440"/>
          </a:xfrm>
          <a:prstGeom prst="ellipse">
            <a:avLst/>
          </a:prstGeom>
          <a:noFill/>
          <a:ln w="9360">
            <a:solidFill>
              <a:srgbClr val="0070c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Elipse 12"/>
          <p:cNvSpPr/>
          <p:nvPr/>
        </p:nvSpPr>
        <p:spPr>
          <a:xfrm>
            <a:off x="7061040" y="4102200"/>
            <a:ext cx="1803600" cy="190440"/>
          </a:xfrm>
          <a:prstGeom prst="ellipse">
            <a:avLst/>
          </a:prstGeom>
          <a:noFill/>
          <a:ln w="9360">
            <a:solidFill>
              <a:srgbClr val="0070c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CaixaDeTexto 3"/>
          <p:cNvSpPr/>
          <p:nvPr/>
        </p:nvSpPr>
        <p:spPr>
          <a:xfrm>
            <a:off x="7835760" y="4102200"/>
            <a:ext cx="10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61,0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CaixaDeTexto 13"/>
          <p:cNvSpPr/>
          <p:nvPr/>
        </p:nvSpPr>
        <p:spPr>
          <a:xfrm>
            <a:off x="7848720" y="3263760"/>
            <a:ext cx="10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23,5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Elipse 14"/>
          <p:cNvSpPr/>
          <p:nvPr/>
        </p:nvSpPr>
        <p:spPr>
          <a:xfrm>
            <a:off x="7213680" y="5219640"/>
            <a:ext cx="1803240" cy="190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CaixaDeTexto 17"/>
          <p:cNvSpPr/>
          <p:nvPr/>
        </p:nvSpPr>
        <p:spPr>
          <a:xfrm>
            <a:off x="7848720" y="5156280"/>
            <a:ext cx="10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13,5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ítulo 12"/>
          <p:cNvSpPr/>
          <p:nvPr/>
        </p:nvSpPr>
        <p:spPr>
          <a:xfrm>
            <a:off x="1968480" y="274680"/>
            <a:ext cx="50673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Cobrança pela captação de 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ítulo 12"/>
          <p:cNvSpPr/>
          <p:nvPr/>
        </p:nvSpPr>
        <p:spPr>
          <a:xfrm>
            <a:off x="1968480" y="274680"/>
            <a:ext cx="50673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Cobrança pela captação de 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Espaço Reservado para Conteúdo 13"/>
          <p:cNvSpPr/>
          <p:nvPr/>
        </p:nvSpPr>
        <p:spPr>
          <a:xfrm>
            <a:off x="214200" y="941400"/>
            <a:ext cx="2400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  <a:ea typeface="Tahoma"/>
              </a:rPr>
              <a:t>Irrig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CaixaDeTexto 38"/>
          <p:cNvSpPr/>
          <p:nvPr/>
        </p:nvSpPr>
        <p:spPr>
          <a:xfrm>
            <a:off x="2349360" y="973080"/>
            <a:ext cx="5067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eficiênci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=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sistema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manej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Elipse 19"/>
          <p:cNvSpPr/>
          <p:nvPr/>
        </p:nvSpPr>
        <p:spPr>
          <a:xfrm>
            <a:off x="5781600" y="941400"/>
            <a:ext cx="140976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CaixaDeTexto 38"/>
          <p:cNvSpPr/>
          <p:nvPr/>
        </p:nvSpPr>
        <p:spPr>
          <a:xfrm>
            <a:off x="1562040" y="1903320"/>
            <a:ext cx="664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manejo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= 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manejo solo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manejo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irrig.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Conector de seta reta 21"/>
          <p:cNvCxnSpPr/>
          <p:nvPr/>
        </p:nvCxnSpPr>
        <p:spPr>
          <a:xfrm flipH="1">
            <a:off x="3377880" y="1557000"/>
            <a:ext cx="2404080" cy="524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78" name="Conector de seta reta 22"/>
          <p:cNvCxnSpPr/>
          <p:nvPr/>
        </p:nvCxnSpPr>
        <p:spPr>
          <a:xfrm>
            <a:off x="5143320" y="2495160"/>
            <a:ext cx="1300680" cy="3927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graphicFrame>
        <p:nvGraphicFramePr>
          <p:cNvPr id="579" name=""/>
          <p:cNvGraphicFramePr/>
          <p:nvPr/>
        </p:nvGraphicFramePr>
        <p:xfrm>
          <a:off x="469800" y="2940120"/>
          <a:ext cx="8255160" cy="2712960"/>
        </p:xfrm>
        <a:graphic>
          <a:graphicData uri="http://schemas.openxmlformats.org/drawingml/2006/table">
            <a:tbl>
              <a:tblPr/>
              <a:tblGrid>
                <a:gridCol w="5676840"/>
                <a:gridCol w="2578320"/>
              </a:tblGrid>
              <a:tr h="699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Cul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𝑘</a:t>
                      </a:r>
                      <a:r>
                        <a:rPr b="1" i="1" lang="pt-BR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anejo sol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 plantio direto ou plantio convencional com práticas conservacionistas de solo: curva de nível, barraginha (caçimba), tratamento de estradas rurais e out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io convencional sem práticas conservacion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80" name="Elipse 11"/>
          <p:cNvSpPr/>
          <p:nvPr/>
        </p:nvSpPr>
        <p:spPr>
          <a:xfrm>
            <a:off x="6654960" y="4000680"/>
            <a:ext cx="1803240" cy="596880"/>
          </a:xfrm>
          <a:prstGeom prst="ellipse">
            <a:avLst/>
          </a:prstGeom>
          <a:noFill/>
          <a:ln w="9360">
            <a:solidFill>
              <a:srgbClr val="0070c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ítulo 12"/>
          <p:cNvSpPr/>
          <p:nvPr/>
        </p:nvSpPr>
        <p:spPr>
          <a:xfrm>
            <a:off x="1968480" y="274680"/>
            <a:ext cx="50673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Cobrança pela captação de 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ítulo 12"/>
          <p:cNvSpPr/>
          <p:nvPr/>
        </p:nvSpPr>
        <p:spPr>
          <a:xfrm>
            <a:off x="1968480" y="274680"/>
            <a:ext cx="50673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ahoma"/>
              </a:rPr>
              <a:t>Cobrança pela captação de 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Espaço Reservado para Conteúdo 13"/>
          <p:cNvSpPr/>
          <p:nvPr/>
        </p:nvSpPr>
        <p:spPr>
          <a:xfrm>
            <a:off x="214200" y="1106640"/>
            <a:ext cx="2400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  <a:ea typeface="Tahoma"/>
              </a:rPr>
              <a:t>Irrig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CaixaDeTexto 38"/>
          <p:cNvSpPr/>
          <p:nvPr/>
        </p:nvSpPr>
        <p:spPr>
          <a:xfrm>
            <a:off x="2349360" y="1252440"/>
            <a:ext cx="5067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eficiênci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=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sistema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manej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Elipse 14"/>
          <p:cNvSpPr/>
          <p:nvPr/>
        </p:nvSpPr>
        <p:spPr>
          <a:xfrm>
            <a:off x="5781600" y="1220760"/>
            <a:ext cx="140976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CaixaDeTexto 38"/>
          <p:cNvSpPr/>
          <p:nvPr/>
        </p:nvSpPr>
        <p:spPr>
          <a:xfrm>
            <a:off x="1562040" y="2271600"/>
            <a:ext cx="664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manejo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=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manejo solo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𝑘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manejo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irrig.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7" name="Conector de seta reta 16"/>
          <p:cNvCxnSpPr/>
          <p:nvPr/>
        </p:nvCxnSpPr>
        <p:spPr>
          <a:xfrm flipH="1">
            <a:off x="3377880" y="1836360"/>
            <a:ext cx="2404080" cy="524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88" name="Conector de seta reta 17"/>
          <p:cNvCxnSpPr/>
          <p:nvPr/>
        </p:nvCxnSpPr>
        <p:spPr>
          <a:xfrm>
            <a:off x="6706800" y="2997000"/>
            <a:ext cx="214920" cy="3927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589" name="Imagem 12" descr=""/>
          <p:cNvPicPr/>
          <p:nvPr/>
        </p:nvPicPr>
        <p:blipFill>
          <a:blip r:embed="rId1"/>
          <a:stretch/>
        </p:blipFill>
        <p:spPr>
          <a:xfrm>
            <a:off x="444600" y="3192480"/>
            <a:ext cx="8172360" cy="2448000"/>
          </a:xfrm>
          <a:prstGeom prst="rect">
            <a:avLst/>
          </a:prstGeom>
          <a:ln w="0">
            <a:noFill/>
          </a:ln>
        </p:spPr>
      </p:pic>
      <p:sp>
        <p:nvSpPr>
          <p:cNvPr id="590" name="Elipse 12"/>
          <p:cNvSpPr/>
          <p:nvPr/>
        </p:nvSpPr>
        <p:spPr>
          <a:xfrm>
            <a:off x="6870600" y="4178160"/>
            <a:ext cx="1803600" cy="596880"/>
          </a:xfrm>
          <a:prstGeom prst="ellipse">
            <a:avLst/>
          </a:prstGeom>
          <a:noFill/>
          <a:ln w="9360">
            <a:solidFill>
              <a:srgbClr val="0070c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CaixaDeTexto 1"/>
          <p:cNvSpPr/>
          <p:nvPr/>
        </p:nvSpPr>
        <p:spPr>
          <a:xfrm>
            <a:off x="101520" y="203040"/>
            <a:ext cx="8902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 - Manga com Micro-Aspersão (8.481 ha) e Uva irrigada com gotejamento (4.935 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cal: DINC Área irrigada: 13.416 h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60% da área total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ptação de água anu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210.300.000 m³ , Classe II , sem medição de vaz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CaixaDeTexto 2"/>
          <p:cNvSpPr/>
          <p:nvPr/>
        </p:nvSpPr>
        <p:spPr>
          <a:xfrm>
            <a:off x="2070000" y="1568520"/>
            <a:ext cx="4622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ap.o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PP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CaixaDeTexto 3"/>
          <p:cNvSpPr/>
          <p:nvPr/>
        </p:nvSpPr>
        <p:spPr>
          <a:xfrm>
            <a:off x="355680" y="2427120"/>
            <a:ext cx="4254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10.300.000 x 0,012 x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CaixaDeTexto 4"/>
          <p:cNvSpPr/>
          <p:nvPr/>
        </p:nvSpPr>
        <p:spPr>
          <a:xfrm>
            <a:off x="5118120" y="2611440"/>
            <a:ext cx="350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 classe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x 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eficiênc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x 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tângulo 28"/>
          <p:cNvSpPr/>
          <p:nvPr/>
        </p:nvSpPr>
        <p:spPr>
          <a:xfrm>
            <a:off x="4876920" y="2274840"/>
            <a:ext cx="4127400" cy="247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CaixaDeTexto 8"/>
          <p:cNvSpPr/>
          <p:nvPr/>
        </p:nvSpPr>
        <p:spPr>
          <a:xfrm>
            <a:off x="5194440" y="3233880"/>
            <a:ext cx="350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1,0 x 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eficiênc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x 1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CaixaDeTexto 9"/>
          <p:cNvSpPr/>
          <p:nvPr/>
        </p:nvSpPr>
        <p:spPr>
          <a:xfrm>
            <a:off x="5156280" y="4186080"/>
            <a:ext cx="37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cap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 ( 0,10 x 0,8 x 0,70 ) =0,0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CaixaDeTexto 10"/>
          <p:cNvSpPr/>
          <p:nvPr/>
        </p:nvSpPr>
        <p:spPr>
          <a:xfrm>
            <a:off x="5156280" y="3695760"/>
            <a:ext cx="939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Conector de seta reta 32"/>
          <p:cNvCxnSpPr>
            <a:stCxn id="598" idx="2"/>
          </p:cNvCxnSpPr>
          <p:nvPr/>
        </p:nvCxnSpPr>
        <p:spPr>
          <a:xfrm>
            <a:off x="5625720" y="4003200"/>
            <a:ext cx="470520" cy="1832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00" name="CaixaDeTexto 13"/>
          <p:cNvSpPr/>
          <p:nvPr/>
        </p:nvSpPr>
        <p:spPr>
          <a:xfrm>
            <a:off x="6235560" y="3687840"/>
            <a:ext cx="1168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manejo s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CaixaDeTexto 14"/>
          <p:cNvSpPr/>
          <p:nvPr/>
        </p:nvSpPr>
        <p:spPr>
          <a:xfrm>
            <a:off x="7518240" y="3695760"/>
            <a:ext cx="1346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manejo irrig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CaixaDeTexto 15"/>
          <p:cNvSpPr/>
          <p:nvPr/>
        </p:nvSpPr>
        <p:spPr>
          <a:xfrm>
            <a:off x="139680" y="3608280"/>
            <a:ext cx="46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10.300.000 x 0,012 x 0,0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CaixaDeTexto 36"/>
          <p:cNvSpPr/>
          <p:nvPr/>
        </p:nvSpPr>
        <p:spPr>
          <a:xfrm>
            <a:off x="673200" y="30733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400" spc="-1" strike="noStrike">
                <a:solidFill>
                  <a:srgbClr val="6a3203"/>
                </a:solidFill>
                <a:latin typeface="Arial"/>
              </a:rPr>
              <a:t>Obs.: Novo PPU propo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Conector de seta reta 37"/>
          <p:cNvCxnSpPr/>
          <p:nvPr/>
        </p:nvCxnSpPr>
        <p:spPr>
          <a:xfrm>
            <a:off x="2584080" y="3381480"/>
            <a:ext cx="470520" cy="234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05" name="CaixaDeTexto 19"/>
          <p:cNvSpPr/>
          <p:nvPr/>
        </p:nvSpPr>
        <p:spPr>
          <a:xfrm>
            <a:off x="596880" y="438300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R$ 141.321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CaixaDeTexto 20"/>
          <p:cNvSpPr/>
          <p:nvPr/>
        </p:nvSpPr>
        <p:spPr>
          <a:xfrm>
            <a:off x="330120" y="5246640"/>
            <a:ext cx="87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10.300.000 x 0,010 x 0,025 = R$ 52.575,00 (valor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gen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7" name="Conector de seta reta 61"/>
          <p:cNvCxnSpPr/>
          <p:nvPr/>
        </p:nvCxnSpPr>
        <p:spPr>
          <a:xfrm>
            <a:off x="6797520" y="4016160"/>
            <a:ext cx="121680" cy="2134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8" name="Conector de seta reta 62"/>
          <p:cNvCxnSpPr/>
          <p:nvPr/>
        </p:nvCxnSpPr>
        <p:spPr>
          <a:xfrm flipH="1">
            <a:off x="7819560" y="4057200"/>
            <a:ext cx="207360" cy="2581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09" name="Retângulo 65"/>
          <p:cNvSpPr/>
          <p:nvPr/>
        </p:nvSpPr>
        <p:spPr>
          <a:xfrm>
            <a:off x="101520" y="4222800"/>
            <a:ext cx="4508640" cy="6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Conector de seta reta 66"/>
          <p:cNvCxnSpPr/>
          <p:nvPr/>
        </p:nvCxnSpPr>
        <p:spPr>
          <a:xfrm flipV="1">
            <a:off x="2365200" y="2795040"/>
            <a:ext cx="455040" cy="2782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CaixaDeTexto 1"/>
          <p:cNvSpPr/>
          <p:nvPr/>
        </p:nvSpPr>
        <p:spPr>
          <a:xfrm>
            <a:off x="101520" y="203040"/>
            <a:ext cx="8902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 - Manga com Micro-Aspersão (8.481 ha) e Uva irrigada com gotejamento (4.935 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cal: DINC Área irrigada: 13.416 h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60% da área total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sumo de água anu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:189.270.000 m³   (210.300.000 m³ x 0,90 – Anexo II da DN 94/20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CaixaDeTexto 2"/>
          <p:cNvSpPr/>
          <p:nvPr/>
        </p:nvSpPr>
        <p:spPr>
          <a:xfrm>
            <a:off x="2070000" y="1835280"/>
            <a:ext cx="544824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c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PP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CaixaDeTexto 3"/>
          <p:cNvSpPr/>
          <p:nvPr/>
        </p:nvSpPr>
        <p:spPr>
          <a:xfrm>
            <a:off x="355680" y="2541600"/>
            <a:ext cx="4254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c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89.270.000 x 0,024 x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CaixaDeTexto 4"/>
          <p:cNvSpPr/>
          <p:nvPr/>
        </p:nvSpPr>
        <p:spPr>
          <a:xfrm>
            <a:off x="5118120" y="2725560"/>
            <a:ext cx="350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con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 classe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x 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eficiênc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x 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tângulo 28"/>
          <p:cNvSpPr/>
          <p:nvPr/>
        </p:nvSpPr>
        <p:spPr>
          <a:xfrm>
            <a:off x="4876920" y="2389320"/>
            <a:ext cx="4127400" cy="247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CaixaDeTexto 8"/>
          <p:cNvSpPr/>
          <p:nvPr/>
        </p:nvSpPr>
        <p:spPr>
          <a:xfrm>
            <a:off x="5194440" y="3348000"/>
            <a:ext cx="350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con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1,0 x 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eficiênc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x 1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CaixaDeTexto 9"/>
          <p:cNvSpPr/>
          <p:nvPr/>
        </p:nvSpPr>
        <p:spPr>
          <a:xfrm>
            <a:off x="5016600" y="4300560"/>
            <a:ext cx="384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con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 ( 0,10 x 0,8 x 0,70 ) =0,0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CaixaDeTexto 10"/>
          <p:cNvSpPr/>
          <p:nvPr/>
        </p:nvSpPr>
        <p:spPr>
          <a:xfrm>
            <a:off x="5156280" y="3809880"/>
            <a:ext cx="939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Conector de seta reta 32"/>
          <p:cNvCxnSpPr>
            <a:stCxn id="618" idx="2"/>
          </p:cNvCxnSpPr>
          <p:nvPr/>
        </p:nvCxnSpPr>
        <p:spPr>
          <a:xfrm>
            <a:off x="5625720" y="4117680"/>
            <a:ext cx="470520" cy="1832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0" name="CaixaDeTexto 13"/>
          <p:cNvSpPr/>
          <p:nvPr/>
        </p:nvSpPr>
        <p:spPr>
          <a:xfrm>
            <a:off x="6235560" y="3801960"/>
            <a:ext cx="1168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manejo s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CaixaDeTexto 14"/>
          <p:cNvSpPr/>
          <p:nvPr/>
        </p:nvSpPr>
        <p:spPr>
          <a:xfrm>
            <a:off x="7518240" y="3809880"/>
            <a:ext cx="1346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manejo irrig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CaixaDeTexto 15"/>
          <p:cNvSpPr/>
          <p:nvPr/>
        </p:nvSpPr>
        <p:spPr>
          <a:xfrm>
            <a:off x="139680" y="3722760"/>
            <a:ext cx="461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con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89.270.000 x 0,024 x 0,0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aixaDeTexto 36"/>
          <p:cNvSpPr/>
          <p:nvPr/>
        </p:nvSpPr>
        <p:spPr>
          <a:xfrm>
            <a:off x="673200" y="3187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1400" spc="-1" strike="noStrike">
                <a:solidFill>
                  <a:srgbClr val="6a3203"/>
                </a:solidFill>
                <a:latin typeface="Arial"/>
              </a:rPr>
              <a:t>Obs.: Novo PPU propo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4" name="Conector de seta reta 37"/>
          <p:cNvCxnSpPr/>
          <p:nvPr/>
        </p:nvCxnSpPr>
        <p:spPr>
          <a:xfrm>
            <a:off x="2584080" y="3495600"/>
            <a:ext cx="470520" cy="234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5" name="CaixaDeTexto 19"/>
          <p:cNvSpPr/>
          <p:nvPr/>
        </p:nvSpPr>
        <p:spPr>
          <a:xfrm>
            <a:off x="596880" y="4497480"/>
            <a:ext cx="4254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c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R$ 254.378,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CaixaDeTexto 20"/>
          <p:cNvSpPr/>
          <p:nvPr/>
        </p:nvSpPr>
        <p:spPr>
          <a:xfrm>
            <a:off x="330120" y="5183280"/>
            <a:ext cx="87249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con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68.240.000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210.300.000 m³ x 0,80 – Anexo II da DN 40/2008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0,020 x 0,025 = R$ 84.120,00 (valor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gen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7" name="Conector de seta reta 61"/>
          <p:cNvCxnSpPr/>
          <p:nvPr/>
        </p:nvCxnSpPr>
        <p:spPr>
          <a:xfrm>
            <a:off x="6797520" y="4130280"/>
            <a:ext cx="121680" cy="2134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28" name="Conector de seta reta 62"/>
          <p:cNvCxnSpPr/>
          <p:nvPr/>
        </p:nvCxnSpPr>
        <p:spPr>
          <a:xfrm flipH="1">
            <a:off x="7819560" y="4172040"/>
            <a:ext cx="207360" cy="2577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9" name="Retângulo 65"/>
          <p:cNvSpPr/>
          <p:nvPr/>
        </p:nvSpPr>
        <p:spPr>
          <a:xfrm>
            <a:off x="101520" y="4336920"/>
            <a:ext cx="4508640" cy="6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0" name="Conector de seta reta 66"/>
          <p:cNvCxnSpPr/>
          <p:nvPr/>
        </p:nvCxnSpPr>
        <p:spPr>
          <a:xfrm flipV="1">
            <a:off x="2365200" y="2909880"/>
            <a:ext cx="455040" cy="2782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ítulo 12"/>
          <p:cNvSpPr/>
          <p:nvPr/>
        </p:nvSpPr>
        <p:spPr>
          <a:xfrm>
            <a:off x="1968480" y="274680"/>
            <a:ext cx="50673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Tahoma"/>
              </a:rPr>
              <a:t>Anál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CaixaDeTexto 2"/>
          <p:cNvSpPr/>
          <p:nvPr/>
        </p:nvSpPr>
        <p:spPr>
          <a:xfrm>
            <a:off x="495360" y="119376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lor total vigente  (R$ 52.575,00 + R$ 84.120,00) = R$ 136.695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CaixaDeTexto 3"/>
          <p:cNvSpPr/>
          <p:nvPr/>
        </p:nvSpPr>
        <p:spPr>
          <a:xfrm>
            <a:off x="495360" y="185436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vo Valor Total (R$ 141.321,60 + R$ 254.378,88) = R$ 395.700,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CaixaDeTexto 4"/>
          <p:cNvSpPr/>
          <p:nvPr/>
        </p:nvSpPr>
        <p:spPr>
          <a:xfrm>
            <a:off x="609480" y="2673360"/>
            <a:ext cx="734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R$ 395.700,48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= 2,89 ou seja, 189%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$ 136.695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CaixaDeTexto 5"/>
          <p:cNvSpPr/>
          <p:nvPr/>
        </p:nvSpPr>
        <p:spPr>
          <a:xfrm>
            <a:off x="927000" y="3911760"/>
            <a:ext cx="713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R$ 395.700,48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= R$ 29,49/ ha x 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3.416 h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AutoShape 5"/>
          <p:cNvSpPr/>
          <p:nvPr/>
        </p:nvSpPr>
        <p:spPr>
          <a:xfrm flipH="1">
            <a:off x="6502320" y="4680"/>
            <a:ext cx="2641680" cy="173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599" y="0"/>
                </a:lnTo>
                <a:lnTo>
                  <a:pt x="21599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3" descr=""/>
          <p:cNvPicPr/>
          <p:nvPr/>
        </p:nvPicPr>
        <p:blipFill>
          <a:blip r:embed="rId1"/>
          <a:srcRect l="30211" t="23706" r="30104" b="27160"/>
          <a:stretch/>
        </p:blipFill>
        <p:spPr>
          <a:xfrm>
            <a:off x="139680" y="431640"/>
            <a:ext cx="891684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AutoShape 5"/>
          <p:cNvSpPr/>
          <p:nvPr/>
        </p:nvSpPr>
        <p:spPr>
          <a:xfrm flipH="1">
            <a:off x="6502320" y="4680"/>
            <a:ext cx="2641680" cy="173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599" y="0"/>
                </a:lnTo>
                <a:lnTo>
                  <a:pt x="21599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3" descr=""/>
          <p:cNvPicPr/>
          <p:nvPr/>
        </p:nvPicPr>
        <p:blipFill>
          <a:blip r:embed="rId1"/>
          <a:srcRect l="30417" t="19136" r="30069" b="22593"/>
          <a:stretch/>
        </p:blipFill>
        <p:spPr>
          <a:xfrm>
            <a:off x="254160" y="101520"/>
            <a:ext cx="86104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15:44Z</dcterms:created>
  <dc:creator>Alberto Schvartzman</dc:creator>
  <dc:description/>
  <dc:language>en-US</dc:language>
  <cp:lastModifiedBy>alberto</cp:lastModifiedBy>
  <cp:lastPrinted>2017-03-16T19:03:53Z</cp:lastPrinted>
  <dcterms:modified xsi:type="dcterms:W3CDTF">2017-10-03T20:15:09Z</dcterms:modified>
  <cp:revision>1761</cp:revision>
  <dc:subject/>
  <dc:title>Apresentação CTOC</dc:title>
</cp:coreProperties>
</file>